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6981-8CA3-4171-A3F9-9D90C880C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AE28-A9E2-4EF7-9C02-2859C513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1427-5546-4225-BE98-90F8303AB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E6B2-B6D9-40FB-A52B-12A740DEA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A916-1103-4767-97DC-4AB8E9E7B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33C7-93D8-4062-BADD-4289B24A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E9ECE-A019-4FBF-B04B-F398F45E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8F84-65E3-49A0-BF89-E54B09A6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43DA0-57B0-44E7-8697-8126F57B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A3D6-E274-4937-9B62-36BD90E6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1CCD-24C5-459C-8CF6-AEBD1A18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4622-456D-4576-8187-01667BAF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25F8-789F-49A1-80BF-C562581C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D8834-13AD-4EF1-85C1-3E5CB9DA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D3668-53CF-4AA5-968D-CE0EAABB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84AC-D85C-4EB5-8FBA-EE882CFCD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0FAD-F9C3-4CB8-8D34-FD11A3FF3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A41F-9543-47E6-810E-5E93EE8F3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B791-3655-49DB-A893-B708E78A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61DE-5FF0-4E4D-93AD-AE5AD923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43C3-87FF-4A17-BF20-4B40EFFD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85F2-1707-48DD-8CAB-18AA916E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0FF2-3411-4099-91E9-297F98DE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A18B-9219-44E9-8E48-A38A554D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3AD5-ACE2-46D0-B58D-FFCCA461DD6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FC3E-2DAA-4D0F-803E-0E1F186FB7E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Molotov.bra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en.wikipedia.org/wiki/Image:Harry-truman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otsdam_conference_1945-8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c/Eastern-Europe-small.png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hapter 15: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The Cold War Begin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F.  President Truman</a:t>
            </a:r>
            <a:br>
              <a:rPr sz="3600"/>
            </a:br>
            <a:r>
              <a:rPr b="0" i="1" lang="en-US" sz="3600" spc="-1" strike="noStrike">
                <a:solidFill>
                  <a:srgbClr val="ffffcc"/>
                </a:solidFill>
                <a:latin typeface="Arial"/>
              </a:rPr>
              <a:t>“The buck stops here”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lamed war on appeasement w/Hitler; not happening with Stali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eets w/Molotov and demands free elections in Polan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lations w/USSR spirals downwar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2806560" y="1709640"/>
            <a:ext cx="9144000" cy="360"/>
          </a:xfrm>
          <a:prstGeom prst="rect">
            <a:avLst/>
          </a:prstGeom>
          <a:solidFill>
            <a:srgbClr val="ff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45200" y="4114800"/>
            <a:ext cx="2098800" cy="27432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Harry S. Truma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8320" y="1905120"/>
            <a:ext cx="24382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.  Potsdam Conference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(7/’45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ruman continues to promote democracy and industry in Germany for economic surviva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talin insists on reparat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ach country continues not to trust the oth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5" name="" descr="Clement Attlee, Harry Truman and Joseph Stalin at the Potsdam Conference, July 194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1752480"/>
            <a:ext cx="3886200" cy="32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atellite Na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ose countries that were controlled by Stalin; to include Eastern Europ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9" name="" descr="File:Eastern-Europe-small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1447920"/>
            <a:ext cx="473220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hurchill’s Iron Curtai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752480" y="914400"/>
            <a:ext cx="601992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5.1: 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:  Origins of the Cold Wa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The political and economic differences between the U.S. and the Soviets are the reasons for the development of the Cold Wa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.  Yalta Conference</a:t>
            </a: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(February 1945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191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1.  Preparing for pea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7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.  Stalin, Churchill, Roosevel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7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.  Free elections in Soviet occupied na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DR and Churchill-  democratic gov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talin- communist gov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7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.  Compromise- recognition of communist govt w/free elections late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8320" y="144792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687240" y="22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495680" y="1828800"/>
            <a:ext cx="4419720" cy="35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.  Dividing German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305920" cy="52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.  Dividing German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.  Split Germany and Berli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2. Stalin also wants Germany to pay repara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125280" y="253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0" name="" descr="Democracy"/>
          <p:cNvPicPr/>
          <p:nvPr/>
        </p:nvPicPr>
        <p:blipFill>
          <a:blip r:embed="rId1"/>
          <a:stretch/>
        </p:blipFill>
        <p:spPr>
          <a:xfrm>
            <a:off x="990720" y="4191120"/>
            <a:ext cx="7235640" cy="16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-838080" algn="ctr">
              <a:buClr>
                <a:srgbClr val="ffffcc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Tensions between U.S. and 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Soviet Union grow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1.  In part, due to Stalin refusing free elect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                                     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ot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558720" y="-9383760"/>
            <a:ext cx="8028000" cy="160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4" name="" descr="sunshine"/>
          <p:cNvPicPr/>
          <p:nvPr/>
        </p:nvPicPr>
        <p:blipFill>
          <a:blip r:embed="rId1"/>
          <a:stretch/>
        </p:blipFill>
        <p:spPr>
          <a:xfrm>
            <a:off x="714240" y="13155480"/>
            <a:ext cx="3429000" cy="3086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58720" y="-9383760"/>
            <a:ext cx="8028000" cy="160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6" name="" descr="sunshine"/>
          <p:cNvPicPr/>
          <p:nvPr/>
        </p:nvPicPr>
        <p:blipFill>
          <a:blip r:embed="rId2"/>
          <a:stretch/>
        </p:blipFill>
        <p:spPr>
          <a:xfrm>
            <a:off x="714240" y="13155480"/>
            <a:ext cx="3429000" cy="3086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2362320" y="2666880"/>
            <a:ext cx="4095720" cy="39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2.  Cold War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ate of hostility, short of direct military confrontation, that developed between the two superpower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523880" y="3373560"/>
            <a:ext cx="640080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.  Incompatible System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.  United Stat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eaeaea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apitalism/private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ropert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eaeaea"/>
              </a:buClr>
              <a:buFont typeface="Verdana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emocracy/fre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lec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. Atomic Bomb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2.  Soviet Un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eaeaea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mmunism/stat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ntrolled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.  Dictatorship/one  leader; no political opposi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eaeaea"/>
              </a:buClr>
              <a:buFont typeface="Verdana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onagressions pac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.  US Blames Depression for Cause of Wa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ations stop trading = war for resourc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refore, promote worldwide trad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905120" y="2492280"/>
            <a:ext cx="594360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2-02-23T20:45:36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